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041-18FF-46C4-8520-EFDF5B2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CD8-2B71-4697-82E4-FE242CD5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64C-5F40-42DE-B7F3-761E0163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5D-F78E-495D-A4AE-829E78AC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B67-2C06-4F84-AD18-90AC2BA7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1BB9-B7E5-4EBF-9129-3960631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423B-A95C-49AE-98DD-6A614E7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BB8-47D0-4A35-88D0-6F22AEE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65AA-49CE-4E95-BBC3-7C41F53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0BD-60D5-4A13-8FEE-47FD9FB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E976-1B78-4290-B133-A5933F0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9DA-F82F-4630-B16B-32C5C42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6D1E-C264-418A-8AF8-0C901D5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03C0-6277-45E4-B052-F52809A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57C-AB25-4212-BF37-ACC0953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AE80-7200-4D52-9930-F9A2FD42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AB9-3939-4C01-BBF7-229DDBAA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A2710-5268-4CE3-8AA9-4C9593D653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571C7-1811-4617-AB42-16D1912BB7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2716D-A0FD-444A-8350-65DF951DD7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4A003-8361-4A1B-BB1E-126A5C2C1B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AAA65-44E0-4114-A2A3-BAB125928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8DF-B538-4D2E-A21C-26ED783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E0FC5-44E7-4C10-9F92-24A44A9020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5ABBD-0040-4FBB-9942-7BE3CBE3A7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A7AAA-8E39-4F10-A752-B662F5FA9B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C6C93-32A9-4D3B-9CD2-4A85D6668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11D3A-620A-458F-B003-2727E70EA8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053B6-4315-45FF-937F-CA42E21772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C800E-FEA4-4A16-A355-ED95F4941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BBA-DBDD-463D-9B3E-D2C2889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305-F1F7-4E0C-8FCE-E34F460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E1C-4A70-479D-AA6B-524CAE1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EB7-364F-40CD-870F-C8F74A8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F09-9092-4FF9-BE24-F322ECF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2B8-00CB-4CCC-9C91-4BE1462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766C-CE05-4601-BD8A-19C61C54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C42-F3ED-426D-94CA-45ACB38EA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4A7-D064-4D89-B92C-505277C7193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КОД ПОВРЕДА МЕКИХ ТКИВА ДОЊЕГ ЕКСТРЕМИТЕ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Picture 5" descr="C:\Users\User\Desktop\преузимање.jpg"/>
          <p:cNvPicPr/>
          <p:nvPr/>
        </p:nvPicPr>
        <p:blipFill>
          <a:blip r:embed="rId3"/>
          <a:stretch/>
        </p:blipFill>
        <p:spPr>
          <a:xfrm>
            <a:off x="6934320" y="228600"/>
            <a:ext cx="1962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онтуз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е су контузије у пределу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еликог трохантер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при чему се иритира и бурза која лежи између тетива м.глутеуса маxимуса и м.тенсора фасције лате и великог троханте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д палпаторне болне осетљивости, постоји ограничење флексије, екстензије и ротације, због притиска илиотибијалног трактуса на напету бурз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лив крви у бурзу узрокује јаке бол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D73-3C95-4227-855D-21E155B6C7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Дисторзиј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ома су ретке повреде, због великог обима покрета у зглобу и снажних лигамен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 болом у препони, ређе позад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се појачавају при покретима ротације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она контрактура кука се појачава развојем реактивног трауматског синовит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5919-59A2-4C8C-8DAD-1A4C41A12C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Дистензије мишића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.sartorius-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4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сарторијуса настаје услед снажних, изненадних контракција при трчању и скака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ојачава при пасивној спољној ротацији, флексији и абдукцији на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7EE-03D5-400B-91F8-EEAE8BB7F9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ензија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.rectus femori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4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 ректус фемориса, н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A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настаје при изненадној промени корака при трчању (нарочито код недовољно загрејаних и преморених тркач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ројектује на предњу страну карлице. Болна је и отежана екстензија кука, као и активна контракција квадрицеп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CE6-3607-4696-A690-27870E1C03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Дистензија мишића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.gluteus mediu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глутеус медиус-а настаје форсираном абдукцијом натколенице (често код гимнастичарк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ирадирају од илијачног гребена ка великом трохантеру и појачавају се при активној абдукцији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1573-1061-4188-BD44-543D9D961C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Бол у препони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оентезитичне природе, настају као кумулативне афекције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ишића адуктора и посебно илиопсоаса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Ентезитис карличних припоја , а болном пројекцијом у препону, се често јавља код спортиста (тркача,  фудбалер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и примицач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adductor fem.longus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је изложен трауми при форсираним абдукц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0EC-18A1-4E1B-9C54-278FA2A796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Бол у препон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6002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adductor femoris magnu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изложен при изненадној снажној контракцији (при трчању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су локализовани у исхиопубичној регији и шире се дуж медијалног дела натколенице, чак до мед.кондила бутне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ојачава при активној абдукцији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340-B9B0-4D34-9A0D-D4D9472F11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уксација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настају механизмом индиректне силе, код аутомоболских несре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зависности од положаја главе фемура према ацетабулуму, луксација може бит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ње/горња и  предње/доња и задње/горња и задње/до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задње/горња луксација при којој се глава бутне кости помера према позади и навиш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ан тип луксације кука је када глава бутне кости прелама и пробија дно ацетабулу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597-E5C0-42BA-B08B-84AACE83D5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ight Arrow 4"/>
          <p:cNvSpPr/>
          <p:nvPr/>
        </p:nvSpPr>
        <p:spPr>
          <a:xfrm>
            <a:off x="304920" y="32004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тензиван бол у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задњих луксација, нога је скраћена, ротирана на унутра, савијена у куку и припијена (а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редњих луксација, нога је скраћена, ротирана упоље, савијена у куку и одмакнута (аб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и немогућност активних и пасивних покрет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0CC0-6DBF-446D-8FBB-99943EBDB3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најчешће довољна да се постави дијагноза ишчашењ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 би се дијагноза дефинитивно поставил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 снимак кука у две проје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C4C-430B-4FD5-BE31-3C71F6B296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Траум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вређивање, без обзира да ли се ради о повредама задобијеним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 рад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 саобраћај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пор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 кући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 јавном мес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едставља озбиљан социјалн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едицински и економски проблем за сваку земљ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186-446F-4CB0-B548-C1666C123C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педско лечење- репози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ровање, ход без ослонаца(8-12 недељ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ликације ишчашења ку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аваскуларна некроза главе бутн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остеоартритис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осифицирајући миоз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оштећење ишиадичног нер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0006-552F-4309-B685-FD9562C772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позиција главе бутна кости у ацетабул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ируршка репози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D77-C8A1-4A03-BBF6-499E889858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МИШИЋА НАТКОЛЕН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а мишића предње ложе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m.quadriceps femori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е или индиректним механизм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узије, дистензије, лацерације и руптур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контузије. У мишићу долази до настанка хемат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знаци: бол и оток. Палпаторно се може утврдити локализација повре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: 4-6 недеља, мировање, физикална терапија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9DE-1BB1-47F7-86C5-0352961EA6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предње лож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4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директним механизмом повреде долази до дистензионих повред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лавном на пателарном припо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-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знат као Синдинг-Ларсенов синдр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B80-D43C-4901-9582-81C589667B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задње лож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440" y="16002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 b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membra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tenidi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углавном настају индиректним механизмом- изненадне снажн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бол са полазишта кратке главе бицепса, као највурнерабилнијег дела задње л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мировање,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5E0-A1FD-4D4A-AFF4-6E9AE80D51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а мишића унутрашње лож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7720" y="16002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uctor magnus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uctor longus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dductor brevi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ctineu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5.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cili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су углавном на карличним полазиш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: префорсирана абду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: болна осетљивост у исхиопубичној регији, ото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 физикална 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21F-4B49-49D4-971A-151083765D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КОЛ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билизатори колена се деле на пасивне (лигаменти колена и менискуси) и активне (мишићи коле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асивни стабилизатори колен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латерални лигаменти (унутрашњ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 спољашњ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крштени лигаменти (предњи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 задњ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DB9-C03F-4BC2-A4F7-3AE2086019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лигамената колена -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LC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овреде медијалних колатералних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ректна си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бично су удружене повреде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”несрећна тријада”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 ,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дијал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нискус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L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линичка слика:бол, оток, отежан ход. Могућ валгус при ослонц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г:НМР; абдукциони стрес 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486-8613-4E75-BA8E-715A6FC69E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Ендогене повред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стају као последица анатомс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изиолош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ме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емора</a:t>
            </a:r>
            <a:r>
              <a:rPr b="1" i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или</a:t>
            </a:r>
            <a:r>
              <a:rPr b="1" i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енапреза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Акут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имптоматоло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ронич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имптоматоло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688-A8E3-4A45-8627-EDFF401EE0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е лигамената колена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- LC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7720" y="16002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бдукциони или валгус стрес тест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испитује стабилност, односно јачину медијалног колатералног лига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ECAC-9FE5-473E-A7B5-2A5A2EFE3F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ављају се у три степ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. степен – то су дистензионе повреде (елонгационе дисторзије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је праћена оштрим болом. Присутност палпаторног бола на кондилијарним припојима лигамената (ткз. смучарска тачка) болна осетљивост се појачава услед форсиране абдукције потколенице а зглобни простор је неосетљив и без знакова лигаментарне не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A4FB-031F-47F5-B967-D2B0774C45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степен – повреде овог степена одликују се делимичним расцепом лигамената (лацерациона дисторзиј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вља се најчешће на медијалном лигаменту и са непосредном појавом отока због присутне хемораг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на осетљивост је најчешће на једном од лигаментарних припоја која се појачава латеризацијом потколенице, нарочито на спољну ротацију у лакој флекс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C01-32ED-464C-89E5-FE56138800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. степен – повреде овог степена су и најтеже то су најчешће руптурационе дисторз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љује се оток (хематроза), изражена палпаторна болна осетљивост на горњем или доњем припоју, а некад и дуж целог лига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потпуног прекида лигамента нема рефлексног спазма, а бол се појачава на покушај латерализације потколен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233-1F24-4693-9BAF-A55172164B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ракциони тест ил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pley’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 служи за процену лезије медијалног колатералног лигамент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дном руком се фиксира натколеница а другом подиже  потколеница под правим углом. Уколико је присутна лезија лигамнета долази до појачавања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395-3F08-428D-A3A0-0B13119C33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ест за испитивање медиолатералне нестабилности колен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5238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лгус стрес 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ено је флектирано под углом од 30. Једном руком се фиксира фемур, другом се помера потколеница медијално и латерално. Ако постоји лацерациј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јачава се бол, ако постоји руптура долази до от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ња зглоба медиј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553-97A6-4F70-994A-AFE72C9297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ест за испитивање медиолатералне нестабилности колена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 LCL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6212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дукциони или варус-стрес тест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води се на сличан начин као и претходни, у истој позицији пацијента. Такође се ради у пуној екстензији и флексији од 30°. Испитивач шаке поставља са медијалне стране колена уз аплицирање адукционе или варус силе на потколеницу. Позитиван тест у екстензији значи обимну повреду струк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CL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задњег аспект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208-D8E5-4948-B8AD-A917819CF5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ig. colaterale </a:t>
            </a:r>
            <a:br>
              <a:rPr sz="32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aterale (LCL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а си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, оток, хематом, отеж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НМР, адукциони стрес тест позитив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асификују се у три степана повреде према не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х:оперативна и неоператив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C11-B6A9-43A2-B50B-63360E55F8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асак при настанку повред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осети да је нешто пукло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бол који се појачава при покре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блокад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након неколико дана атрофиј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EEB-7618-4B19-8F2F-DED91CACC0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772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НМР, артроскопија, 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тестови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achma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,тест предње фијо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:оперативно и не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428-3F8B-4E41-B11E-66A9DF9FF8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Егзогене повред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спољних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л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генс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прекид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инуите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ме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у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848-1ECB-4BA3-A3F2-E781DCD8CE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-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предње фиоке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440" y="15235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итаник лежи на леђима, с коленом флектираним под углом од 90°, фиксиран дистални дио потколенице. Потколеница се повлачи према напре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мерање до 5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) спада у физиолошку лабавост, помак од 1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+) најчешће значи парцијалну руптуру, а помак преко 1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++) представља комплетну руптур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0C9-FD63-44D1-B2E6-C90B923890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212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Лахманов (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Lachmanov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ст предњег померања тибије састоји се од испитивања симптома предње фиоке уз флексију колена од 20-30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кушава се повлачење потколенице према напред. Уколико се направи померање веће од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4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казује на лези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9BF7-BD30-409F-8373-7CA061A7BD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астућа бол и умерен 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ежан ослонац и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код старијих повреда- бол и нестабилност при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НМР,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9C9-C89B-4036-9884-5F91DC185A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„задње-фиоке”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ст „задње-фиоке” сматра се најосетљивијим клиничким тестом за процену оштећења LCP-а и мери задње померање тибије у односу на фемур, као и степен те нестабил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84DA-59CC-4A7A-9DD5-0F5B975191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„задње-фиоке”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523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извођењу овога теста пацијент лежи на леђи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ога је у куку савијена на 45°, а у колену 90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палцем палпира медијални зглобни прoстор а дланом врши притисак позади на проксималну тибију. Тако палпацијом може да осети уколико постоји задње померање платоа тиб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C1E-370C-4DE5-87A7-28D88C7A4D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тепен:мировање, орт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тепен имобилизација 4-6 недеља,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степен – хирурш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ADAE-3D5E-49A5-9121-38616CC2FF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Луксација чаш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сте повреде, најчешће се луксира латерално постави задњом страном према спољашњем кондилу фем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ам повреде:форсирана спољашња ротација са фиксираним стопа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, ограничен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видљив дефом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изражен оток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CE3-189C-4AE3-A127-C0FDA83FF8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Tahoma"/>
              </a:rPr>
              <a:t>Повреде мениск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ве еластичне, полумесечасте везивно-хрскавичаве структуре које се налазе унутар зглоба колена, на горњем окрајку голењаче, тј. бази унутрашњег и спољашњег конди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ликујемо спољашњи менискус, који је скоро кружног облика, и полукружни унутрашњи менискус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F270-F306-4374-A074-3DCE9FAC7A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ам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директни  (код скокова и пада са виси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ндирект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жи трауматски расцеп мениск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здужни перикапсул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здужна руптура тела мениск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9DE-E6C2-4873-8A09-44D3FA2799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вреде менискуса кол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јчешћа повреда у спор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ханизам повреде менискуса је сл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 се о оштрим снажним изненадним ротацијама, дирекним ударима, обуздавајућим покретима задње медијалне капсуле и то услед затезања семимембранозуса или предње латералне капсуле при флексији тибије и кретању фемура напред, односно при форсираној флексији кол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174-5904-4E81-A82E-673FD01781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зир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нос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же и слузокож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затворене повред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воре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рактеристика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творених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вреда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м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аз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а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љн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фек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еробн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ану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AD6-972B-4F4D-87E7-AABFE46A43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искална пукотина може бити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нгитудин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оризонт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ј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5A8-3C42-4CC2-9BCE-F0C90805A8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– 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 дуж линије зглоба и блокад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ок, због иритације синов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блокада функција (не може да исправи кол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осећај прескакања, шкљоцања у коле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ход са ослонцем на делимично флектирано коле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ако не може да хода могућа удруженост са повредом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251-CBB7-4930-BF00-8D034A4C16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тири основна симптома повреде менискуса су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ока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г: НМР, РТГ,артроско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AA7-7D22-474B-831A-0904C473EC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Mc Murray 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води се тако што пацијент лежи на леђима. Испитана нога је савијена је у куку и колену а пета додирује бутин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једном руком обухвата стопала а другом колено. Ротира стопало у поље, потколеницу абдукује и колено екстендира. Ако под руком осети прескок највероватније се ради о расцепу медијалног мениск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B08-0C7C-48E5-B818-DCCBEA3497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Apley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цијент лежи потрбушке са коленима флектираним под углом од 90. степени а натколеницом фиксираном за лежиш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са обе руке притисне на потколеницу и ротира стопало наизменично унутра и у поље мењајући степен флекс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уочимо прескок или се пацијент жали на бол ради се о лезији мениск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B49E-BC2D-43EA-ADD5-44FF7AFC6F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мировање 10-15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артроско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B47-80D9-4BD2-81DF-8231746763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какачко колено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вреде припоја мишића екстензора на нивоу пателарних припоја познате су под називом „скакачко колено“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nding – Larsenov sindro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Скакачко колен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ст синдром пренапрезања  који се карактерише појавом бола у предњем делу колена и то најчешће на врху пателе, тј. на полазишту пателарне в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8FFC-34F5-4F2A-A303-3567CCC3DB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а) Неоперативно лечењ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лечење се спроводи неколико месеци са циљем смиривања локалног упалног процеса и поспешивања зарастања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акутној фази (почетак лечења) треба прекинути спортске активности које оптерећују болесни екстремит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ИЦЕ, НСАИ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AAEC-7456-40AE-ABEB-60676FC3AB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смирења упале почиње примена термотерапије , чиме се поспешује циркулација и убрзава процес регенера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сертх, УЗ, 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највећем броју случајева примењује терапија ударним таласима (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Shock wave терап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2F4-1CFC-4118-AE3E-CD039B1FDB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 потребно је у раној фази лечења почети програм вежби јачања и истезања екстензорних мишића (који опружају колен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воде се вежбе са великим бројем понављања и малим оптерећењем, што поспешује прокрвљеност и зарастање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ком рехабилитације примењују се и проприоцептивне вежбе на баланс платформи, које укључују интеракцију зглобних рецептора, мишића, тетива и лигамен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поручује се и ношење ортозе за коле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ED18-3DFE-4754-8A56-C24EFEFCF3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Tahoma"/>
              </a:rPr>
              <a:t>ПОВРЕДЕ МЕКИХ ТКИ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4863-EF0B-4B57-8129-27E7F56C3F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б) Оперативно лечењ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хируршко лечење скакачког колена обично је последња фаза, односно оно се примењује када се није постигло побољшање неоперативним начином леч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96E-0C5E-4A09-AE93-366AA1B867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змекшање хрскавице различитог с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на, док још нема промена на супхондралној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очетку је реверзибилна, а касније иреверзибилна све до развоја секундарне артроз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9643-3A8D-475E-970A-C63A9F4EC3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имптоми су најчешће бол у колену или више нека неодређена нелагода која се погоршава са активношћу или дужим седење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ки пацијенти имају и осећај “напетости” или “пуноће” у колену. Може доћи и до атрофије квадрицепса и отицањ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Јавља се у 4 стадију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оток и размекшав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појава фисура у размекшаним де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стадијум фасцикул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4. стадијум артрозе и огољења субхондрал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08E-BB42-4916-B635-D930210ECF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–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линички знац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елофеморане крепитације при покрет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при притиску и померању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етљивост на палпацију ван површине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нормани развој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интраосеалног притиска унутар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чко оперећење пателарне хрскав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шће се јавља код ж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клиничка слика, РТГ, артроско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1613-5556-48FF-8D61-66A243FD21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потколен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77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мишића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најчешће индиректним механизм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повређ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gastrocnemius, m.sol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05A-248D-4733-8975-1F263EB02F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потколен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тупим удар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дарац оштети мишићно влакно, мишићну капсулу или тетиву, долази до крварења, ствара се хематом унутар или изван капсу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EFFE-34E4-4FE3-945A-05CC2C2523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линичка слик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изненадни оштар бол као „убод ножем"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утисак истегнутости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цепање и кидање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) одузетост повређеног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) у тренутку повређивања пад спортисте као „покошен"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) немогућност хода јако отежан ход и отежано коришћење повређеног дела тел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) дисфункција суседних зглобова повређеног сегмента тел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) бол при пасивном крет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9ABF-F6F9-4181-9FC0-336DD2B55B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440" y="19051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хилова тетива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endo Achil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завршни део троглавог мишића потколенице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m. triceps sura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припаја се на доњој ивици задње стране петне кости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lca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 је најснажније тетива човечјег тела, дуга 5-6 c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AD09-C9AB-4B20-AB91-2A22822FDB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212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ру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3-5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знад припо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ртисти: старији рекреатив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оперативно и конзерв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F929-B2E5-45D0-A416-645AE18C2C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Руптура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 знакови су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изразито опипљиво удубље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јака бол на притис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активно подизање на врхове прстију једне ноге најсигурније је доказ функционално неоштећене тети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F51-0A21-4526-A2A3-62B1607538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скочног </a:t>
            </a:r>
            <a:br>
              <a:rPr sz="3600"/>
            </a:b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ануће или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исторзија скочног зглоб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учесталија је повреда где највише страда талофибуларна ве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обичајени механизам настанка повреде скочног зглоба је инверзија стопала у плантарној флекс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EF27-4CEE-4E08-8655-601CC522DC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скоч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сторз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1.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:д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елимичн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и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стезањ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е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 ligg. и зглобне чау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е. Зглоб је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отеч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(после неколико дана)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, болан и </a:t>
            </a:r>
            <a:r>
              <a:rPr b="0" lang="sr-Latn-RS" sz="2400" spc="-1" strike="noStrike">
                <a:solidFill>
                  <a:srgbClr val="0070c0"/>
                </a:solidFill>
                <a:latin typeface="Tahoma"/>
                <a:ea typeface="Tahoma"/>
              </a:rPr>
              <a:t>стабила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2. степе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: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прснуће меких структура зглоба (лигамената или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капсул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јако болан, делимично натечен, са знацима излива и 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  <a:ea typeface="Tahoma"/>
              </a:rPr>
              <a:t>лагано не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3. степе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: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кидане зглоб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, а истовремено је и капсула зглоба поцепа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. Лечење оперативно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9E41-6BDC-43CD-B4F5-60E87976F5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након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повреде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меких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кив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97000" indent="-297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Циљев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инфлам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ти бол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евенира ширење повреде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 крварење и от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ти запаљенски ексуда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репар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убрзање репараторних процес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ремодел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стићи максимални функционални опоравак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вратити флексибилност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ишићну снагу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здржљивост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рзину и координацију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бољшати кардиореспираторну способ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1CA-2DFB-4093-A351-7B736D35A6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ЗАПАЉЕ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282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едикаментнозна 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НСАИЛ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патромбин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ел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ед или локално хлађе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24-48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есе са ледом или криомасаж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мпресивни заво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ровање или имобилизација повређеног дела 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од првог д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лободних сегмента екстремитета и труп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изикални агенс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ISE, IMP, IF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91C2-D0ED-4FD7-800D-6EBE4E6EFD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Деловањем</a:t>
            </a:r>
            <a:r>
              <a:rPr b="1" i="1" lang="en-US" sz="1400" spc="-1" strike="noStrike">
                <a:solidFill>
                  <a:srgbClr val="40458c"/>
                </a:solidFill>
                <a:latin typeface="Tahoma"/>
              </a:rPr>
              <a:t> на циркулацију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Деловањем </a:t>
            </a:r>
            <a:r>
              <a:rPr b="1" i="1" lang="en-US" sz="1400" spc="-1" strike="noStrike">
                <a:solidFill>
                  <a:srgbClr val="40458c"/>
                </a:solidFill>
                <a:latin typeface="Tahoma"/>
              </a:rPr>
              <a:t>на везивно ткиво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Ултразвучна 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Ултраљубичасти зрац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Ласеротерапиј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Магнет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02440" indent="-432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Код коштаних прелома до 2 сата преко гипса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Вакусак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– хипобарична терапија. Навлаке према локализацији (капа, рука, мања или већа чизма, џак) подпритисак од  -0,05 до 0,55 бара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Васкулато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преко коморе за горње или доње екстремитет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Кинези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Чим болови престану после 2-3 дана, почиње мобилизација сегмента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Програм допуњавају вежбе слободних сегмената екстремитета и опште кондиције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Хидр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Топли облог. Изазива активну хиперемију коже, смањује бол и спазам мишић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Наизменичне (контрастне) купке.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Вртложна купка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водна масаж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водне вежбе</a:t>
            </a: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разне врсте тушев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F406-AC3A-4912-98BA-C29D17849F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Кинез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идрокинезитерап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сно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читав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цена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активним</a:t>
            </a:r>
            <a:r>
              <a:rPr b="1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вежба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Физикалн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агенс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нтинуира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лтразву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1B69-8129-43BC-93E9-8302F23959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Главни задатак карличног појаса у целини је у одржавању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ahoma"/>
              </a:rPr>
              <a:t>стабилности и ослонца тела 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нарочито при извођењу активности трупа и доњих екстремитет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D9F7-E9BD-48A6-B70E-8F19C01B22D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онтузиј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ређене локализација на карлици су због свог положаја чешће изложене контузиј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 је предео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сте или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ja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е, сакрума и великог троханте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Клиничком сликом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мини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, хематом и бол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узије глутелне мускулатуре се клинички манифестују клиничком сликом мноштва интрамускуларних хематома због богатства к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матоми могу да се спусте и у натколену рег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7FD7-8DE4-4B4F-A554-29E5CE70ED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8:34:55Z</dcterms:modified>
  <cp:revision>977</cp:revision>
  <dc:subject/>
  <dc:title>Rehabilitacija traumatoloških bolesnika</dc:title>
</cp:coreProperties>
</file>